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A4F4-36AD-4C9E-BF1B-BFFE6FBBB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B42E-9AA6-415E-A629-6C616C04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C717-AFD0-471D-B181-38A056238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5112-FF5A-4521-B587-988EDB217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9F6D-BFDD-4F3D-8F52-9B07F778C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B146-51FC-4E3B-B3DB-623A1BD1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20C3-6AB2-4299-971B-713A9C79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62B2-BBCA-4F38-929E-FBED65E7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26D59-443D-4CA9-884E-92282948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7641-E3A4-4EF0-9896-318ED6D4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1F1A-9770-461F-9B68-C59AE37B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5EDA-5892-4DCD-A0EC-18385451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DE08-F89C-4959-B6F5-4D05BBF3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55EA-390B-4805-A24C-2F3B4AE6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F9F0-B99B-4387-8EED-1302A960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80EA-2C8B-43B5-A3FA-335106685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78C4-76A1-453C-993E-F3F95DDB4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55EA-A9D8-4E34-BE9E-0F0AEB35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1054-E9DD-42E8-8724-5FC0F252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122A-EB5A-4B9E-AD3E-DDC358EE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F96C-E99F-49F4-972C-1280E7C2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63AF-E97D-4806-A0C6-E5D08FAF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9A24-8ED6-44D5-9D25-93D901CA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40E5-6C76-496C-9CA8-8CF21BA8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59B1-1360-4984-A21F-803DFDBDD1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2311-57EB-4581-92AB-71079DF64F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hyperlink" Target="http://www.google.com/imgres?imgurl=http://www.freedomsphoenix.com/Uploads/Graphics/101-0824211022-happy-family.gif&amp;imgrefurl=http://www.freedomsphoenix.com/Reference-List.htm%3FPgNo%3D2&amp;usg=__FoywlwVuqgVoutFiCmunXYfJj5Y=&amp;h=335&amp;w=450&amp;sz=72&amp;hl=en&amp;start=17&amp;itbs=1&amp;tbnid=wM1nAy3DIU2qQM:&amp;tbnh=95&amp;tbnw=127&amp;prev=/images%3Fq%3Dfamily%26hl%3Den%26safe%3Dactive%26gbv%3D2%26tbs%3Disch:1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hyperlink" Target="http://dezignus.com/wp-content/uploads/2008/04/vector-animals.jpg" TargetMode="External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cript MT Bold"/>
              </a:rPr>
              <a:t>Liliana &amp; Adel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90720" y="1523880"/>
            <a:ext cx="72388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Script MT Bold"/>
              </a:rPr>
              <a:t>La clase De Espan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Script MT Bold"/>
              <a:ea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cript MT Bold"/>
              </a:rPr>
              <a:t>La Famil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Pap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Ma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Hij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Hija</a:t>
            </a:r>
            <a:r>
              <a:rPr b="0" lang="en-US" sz="2800" spc="-1" strike="noStrike">
                <a:solidFill>
                  <a:srgbClr val="ffffff"/>
                </a:solidFill>
                <a:latin typeface="Script MT Bol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3520" y="2362320"/>
            <a:ext cx="3200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cript MT Bold"/>
              </a:rPr>
              <a:t>Los Trabajo’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Cantan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Act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Actr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Balar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Photograph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3962520" y="1600200"/>
            <a:ext cx="4724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Los Colore’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Azu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Roj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Negr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Blan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Rosa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Mora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7"/>
          <a:stretch/>
        </p:blipFill>
        <p:spPr>
          <a:xfrm>
            <a:off x="0" y="1295280"/>
            <a:ext cx="449568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cript MT Bold"/>
              </a:rPr>
              <a:t>Los Anima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Va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Tortug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Le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Zeb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Pesca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Caraco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See full size imag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76720" y="1371600"/>
            <a:ext cx="5867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cript MT Bold"/>
              </a:rPr>
              <a:t>La Rop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Fal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Pantalin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Camis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Brasi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Jaket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May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152280" y="1828800"/>
            <a:ext cx="4343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cript MT Bold"/>
              </a:rPr>
              <a:t>Las Escuel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East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Carter 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Southeas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Fi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Hil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East Forsy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4038480" y="1752480"/>
            <a:ext cx="4648320" cy="36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8:27:41Z</dcterms:created>
  <dc:creator>WSFCS Workstation</dc:creator>
  <dc:description/>
  <dc:language>en-US</dc:language>
  <cp:lastModifiedBy>WSFCS Workstation</cp:lastModifiedBy>
  <dcterms:modified xsi:type="dcterms:W3CDTF">2010-04-28T18:57:35Z</dcterms:modified>
  <cp:revision>3</cp:revision>
  <dc:subject/>
  <dc:title>Slide 1</dc:title>
</cp:coreProperties>
</file>